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D69-656D-4A6B-BA97-CED2D97B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30A-AEC7-4BC9-819A-28E2CB7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213-6A14-42B3-923D-754B59D0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35C-596A-4CA7-BAC9-B21D2289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41B-98DF-4C90-9638-E0FA5885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598-4EE1-4596-BB35-D8FD69C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00BC-8328-409C-BF96-FA784F3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0A27-01E7-486E-8240-9BF2A8A2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7361-5B5F-400D-AF9E-ED13863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AEB-9039-4037-9394-1FF1D4D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4A9D-2076-48FE-AF2A-4C390E5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69A-808B-44A5-9B31-512F83D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C91-88E2-45C4-AD1C-9842EDB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4B62-107D-47EB-AE01-A6278AA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759-3DEC-4A5B-8255-BD01028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0A3-0785-4BD3-B841-D6CBED0F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DA2-784E-45EC-AC73-556876C0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90A-D561-42A1-A325-416ED47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2B9-19AD-4324-A59A-7C2AA701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7E2-2D89-4B00-B8E3-90B07E3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6D4-FFEE-40C6-A5E1-16A5F04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FE0-D821-4387-B3AC-8FA0F55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453-C5A9-4CF7-92BC-37E4270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6EE-598E-4739-A0CC-5BE5C80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D30-F7CD-465B-B7C3-AB9430D6F7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8A8-BDCE-4695-B0C7-7C07BBB956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200"/>
                </a:solidFill>
                <a:latin typeface="Comic Sans MS"/>
              </a:rPr>
              <a:t>Colours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d - wh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81796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ange - karak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5040360" cy="37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ellow - kowha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- 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235116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28:40Z</dcterms:created>
  <dc:creator>andrea.robertson</dc:creator>
  <dc:description/>
  <dc:language>en-US</dc:language>
  <cp:lastModifiedBy>andrea.robertson</cp:lastModifiedBy>
  <dcterms:modified xsi:type="dcterms:W3CDTF">2006-03-06T22:40:29Z</dcterms:modified>
  <cp:revision>3</cp:revision>
  <dc:subject/>
  <dc:title>Colours</dc:title>
</cp:coreProperties>
</file>